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E89-89F0-4DFF-82C7-D39348ED6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6C78-358B-461B-A4EF-5351D7EDD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046-EFEC-49C8-94BC-21C6D1E7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D1F-EA4C-42C3-8098-AACDA90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11C-B48F-4EA9-8352-EB3616D4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B91-6C5C-4EC8-9383-9E061119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D9A9-6BF0-476E-9507-FB4200B0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0551-5395-4D4A-9FB2-D176AF83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D10C-D5C8-466F-8C2E-E6AE5AA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D7E-36CD-4F84-BE7E-799E008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85B4-8F4F-4414-9C70-D3056ED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16F-0656-4EE7-916E-CE41360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D333-BF90-404D-B71C-501E47E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A1A-D9BA-41BA-AD8F-4A9E2591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B30-59B7-45F0-A4C1-D996B7D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9BA8-16E5-45E5-8455-B79F52A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A27A-E33D-425B-BFC1-03B04A7B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B8A0-39C3-4A9B-89F0-7EF5F7B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E7C-E749-46AC-B47B-BE30E83A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608D-3227-43EC-ADA4-20414A67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5BE4-4D3A-4943-B717-B86C8F8A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63FC-12FB-4A64-8741-F6423034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12A0-05D5-4DBF-B0AE-5011ED97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1D3E-7FB3-4BA6-BE27-675BC4D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CCF-2C69-4FE0-84EE-F68F632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B429-3A37-477C-A438-6B980F50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30D6-C82D-44F5-9261-754053B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08AA-44D3-4EFE-8938-B166C8D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D62D-86FB-41AC-BBF1-81338CD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025D-CF03-494F-8520-90A135A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2001-1392-4F47-BAB0-5B57852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4BE3-FE97-4DD0-8EDF-83EC6133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E1A8-E68D-44B3-8F01-416E3B24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73AF-F09D-4FEC-954E-E9720C9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4268-65F6-4034-B145-99ECDE0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02F-0211-4839-A747-C733AC6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22FE-56E8-4304-A09A-192C0A5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4012-E466-4C13-B9CD-F819CB6D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78C3-0B8E-44C5-8FF7-AADB428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9515-2C99-45C5-AA6C-508162E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34DB-1FC7-4E01-9354-4CD9B78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A578-93E3-488F-B83B-E593866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1B8B-205B-46E9-A402-CA436302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A5FC-2794-4F8A-8C9F-30BE2336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7F81-9624-44EC-AE63-77976EFB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A66-17A1-49B0-BDD9-AD2896A0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951-8C10-4C41-9808-10772C81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233-20DB-4EB1-A721-7655A6A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C46-E287-472C-85D1-4EBA971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FD3-E873-4FA8-BC03-898036D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116F-C51A-4255-A0BF-32EC5F89AF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484-6C76-4FFD-B4C9-89B8CAC0446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69B-1296-427F-A614-0F06667662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55FC-18C3-4AEE-83C4-22F763AC72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Japanese 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Matt and Natali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7" descr="800px-2007_Lexus_LF-A_concept.jpg"/>
          <p:cNvPicPr/>
          <p:nvPr/>
        </p:nvPicPr>
        <p:blipFill>
          <a:blip r:embed="rId1"/>
          <a:stretch/>
        </p:blipFill>
        <p:spPr>
          <a:xfrm>
            <a:off x="779400" y="1935000"/>
            <a:ext cx="7585200" cy="4389480"/>
          </a:xfrm>
          <a:prstGeom prst="rect">
            <a:avLst/>
          </a:prstGeom>
          <a:ln w="0">
            <a:noFill/>
          </a:ln>
        </p:spPr>
      </p:pic>
      <p:pic>
        <p:nvPicPr>
          <p:cNvPr id="204" name="~PP81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WHY DIDN’T ANYONE TELL ME THAT THESE CAME IN RAINBOW COLOUR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=(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Placeholder 4" descr="newvthomepic.jpeg"/>
          <p:cNvPicPr/>
          <p:nvPr/>
        </p:nvPicPr>
        <p:blipFill>
          <a:blip r:embed="rId1"/>
          <a:srcRect l="13858" t="0" r="13858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41" name="~PP1141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I love this show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Placeholder 4" descr="300_110486.gif"/>
          <p:cNvPicPr/>
          <p:nvPr/>
        </p:nvPicPr>
        <p:blipFill>
          <a:blip r:embed="rId1"/>
          <a:srcRect l="5946" t="0" r="5946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45" name="~PP719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アシモ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(ASIMO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50px-HONDA_ASIMO.jpg"/>
          <p:cNvPicPr/>
          <p:nvPr/>
        </p:nvPicPr>
        <p:blipFill>
          <a:blip r:embed="rId1"/>
          <a:stretch/>
        </p:blipFill>
        <p:spPr>
          <a:xfrm>
            <a:off x="2925720" y="1935000"/>
            <a:ext cx="329256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~PP1696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IBO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A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tificial 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I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telligence Ro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BO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aibo.jpg"/>
          <p:cNvPicPr/>
          <p:nvPr/>
        </p:nvPicPr>
        <p:blipFill>
          <a:blip r:embed="rId1"/>
          <a:stretch/>
        </p:blipFill>
        <p:spPr>
          <a:xfrm>
            <a:off x="2558880" y="1935000"/>
            <a:ext cx="4026240" cy="4389480"/>
          </a:xfrm>
          <a:prstGeom prst="rect">
            <a:avLst/>
          </a:prstGeom>
          <a:ln w="0">
            <a:noFill/>
          </a:ln>
        </p:spPr>
      </p:pic>
      <p:pic>
        <p:nvPicPr>
          <p:cNvPr id="251" name="~PP1037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cial Rob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100531.jpg"/>
          <p:cNvPicPr/>
          <p:nvPr/>
        </p:nvPicPr>
        <p:blipFill>
          <a:blip r:embed="rId1"/>
          <a:stretch/>
        </p:blipFill>
        <p:spPr>
          <a:xfrm>
            <a:off x="1952640" y="1947960"/>
            <a:ext cx="5238720" cy="4362480"/>
          </a:xfrm>
          <a:prstGeom prst="rect">
            <a:avLst/>
          </a:prstGeom>
          <a:ln w="0">
            <a:noFill/>
          </a:ln>
        </p:spPr>
      </p:pic>
      <p:pic>
        <p:nvPicPr>
          <p:cNvPr id="254" name="~PP359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uard Rob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Content Placeholder 3" descr="610x.jpg"/>
          <p:cNvPicPr/>
          <p:nvPr/>
        </p:nvPicPr>
        <p:blipFill>
          <a:blip r:embed="rId1"/>
          <a:stretch/>
        </p:blipFill>
        <p:spPr>
          <a:xfrm>
            <a:off x="1666800" y="2011320"/>
            <a:ext cx="5810400" cy="4238640"/>
          </a:xfrm>
          <a:prstGeom prst="rect">
            <a:avLst/>
          </a:prstGeom>
          <a:ln w="0">
            <a:noFill/>
          </a:ln>
        </p:spPr>
      </p:pic>
      <p:pic>
        <p:nvPicPr>
          <p:cNvPr id="257" name="~PP3462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BOT-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Content Placeholder 3" descr="wabot1.jpg"/>
          <p:cNvPicPr/>
          <p:nvPr/>
        </p:nvPicPr>
        <p:blipFill>
          <a:blip r:embed="rId1"/>
          <a:stretch/>
        </p:blipFill>
        <p:spPr>
          <a:xfrm>
            <a:off x="3089160" y="1935000"/>
            <a:ext cx="296568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~PP668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1447920" y="2209680"/>
            <a:ext cx="64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GO JAPAN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3048120" y="4114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ait a few second’s for a surprise from Matt.  =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~PP757.WAV" descr=""/>
          <p:cNvPicPr/>
          <p:nvPr/>
        </p:nvPicPr>
        <p:blipFill>
          <a:blip r:embed="rId1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Rick Astley - Never gonna give you up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14960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Matthew\Desktop\Jap Project Pics\niss_r35_v_shinkansen.jpg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  <p:pic>
        <p:nvPicPr>
          <p:cNvPr id="206" name="~PP2287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新幹線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onstantia"/>
                <a:ea typeface="ＭＳ Ｐゴシック"/>
              </a:rPr>
              <a:t>(Bullet train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Matthew\Desktop\Jap Project Pics\500.shinkansen.jpg"/>
          <p:cNvPicPr/>
          <p:nvPr/>
        </p:nvPicPr>
        <p:blipFill>
          <a:blip r:embed="rId2"/>
          <a:stretch/>
        </p:blipFill>
        <p:spPr>
          <a:xfrm>
            <a:off x="457200" y="1905120"/>
            <a:ext cx="7467480" cy="4495680"/>
          </a:xfrm>
          <a:prstGeom prst="rect">
            <a:avLst/>
          </a:prstGeom>
          <a:ln w="0">
            <a:noFill/>
          </a:ln>
        </p:spPr>
      </p:pic>
      <p:pic>
        <p:nvPicPr>
          <p:cNvPr id="210" name="~PP3303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Tokaido Shinkans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Content Placeholder 3" descr="n700_nose.jpg"/>
          <p:cNvPicPr/>
          <p:nvPr/>
        </p:nvPicPr>
        <p:blipFill>
          <a:blip r:embed="rId1"/>
          <a:stretch/>
        </p:blipFill>
        <p:spPr>
          <a:xfrm>
            <a:off x="1089000" y="2003400"/>
            <a:ext cx="6966000" cy="4253040"/>
          </a:xfrm>
          <a:prstGeom prst="rect">
            <a:avLst/>
          </a:prstGeom>
          <a:ln w="0">
            <a:noFill/>
          </a:ln>
        </p:spPr>
      </p:pic>
      <p:pic>
        <p:nvPicPr>
          <p:cNvPr id="213" name="~PP301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r Japanese C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art C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Nissan C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Matthew\Desktop\Jap Project Pics\smart-car.jpg"/>
          <p:cNvPicPr/>
          <p:nvPr/>
        </p:nvPicPr>
        <p:blipFill>
          <a:blip r:embed="rId1"/>
          <a:stretch/>
        </p:blipFill>
        <p:spPr>
          <a:xfrm>
            <a:off x="457200" y="2438280"/>
            <a:ext cx="413856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Matthew\Desktop\Jap Project Pics\nissan-cube-1.jpg"/>
          <p:cNvPicPr/>
          <p:nvPr/>
        </p:nvPicPr>
        <p:blipFill>
          <a:blip r:embed="rId2"/>
          <a:stretch/>
        </p:blipFill>
        <p:spPr>
          <a:xfrm>
            <a:off x="4724280" y="2438280"/>
            <a:ext cx="4038840" cy="3810240"/>
          </a:xfrm>
          <a:prstGeom prst="rect">
            <a:avLst/>
          </a:prstGeom>
          <a:ln w="0">
            <a:noFill/>
          </a:ln>
        </p:spPr>
      </p:pic>
      <p:pic>
        <p:nvPicPr>
          <p:cNvPr id="221" name="~PP3817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treme Custom Japanese Van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Cosmic Space V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9632"/>
                </a:solidFill>
                <a:latin typeface="Constantia"/>
              </a:rPr>
              <a:t>Banana Van on Stero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Content Placeholder 7" descr="Custom-Van-Crazy-1.jpg"/>
          <p:cNvPicPr/>
          <p:nvPr/>
        </p:nvPicPr>
        <p:blipFill>
          <a:blip r:embed="rId1"/>
          <a:stretch/>
        </p:blipFill>
        <p:spPr>
          <a:xfrm>
            <a:off x="907920" y="2514600"/>
            <a:ext cx="3138480" cy="38466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8" descr="japanese_extreme_truck_mods.jpg"/>
          <p:cNvPicPr/>
          <p:nvPr/>
        </p:nvPicPr>
        <p:blipFill>
          <a:blip r:embed="rId2"/>
          <a:stretch/>
        </p:blipFill>
        <p:spPr>
          <a:xfrm>
            <a:off x="5477040" y="3441600"/>
            <a:ext cx="2377800" cy="1992240"/>
          </a:xfrm>
          <a:prstGeom prst="rect">
            <a:avLst/>
          </a:prstGeom>
          <a:ln w="0">
            <a:noFill/>
          </a:ln>
        </p:spPr>
      </p:pic>
      <p:pic>
        <p:nvPicPr>
          <p:cNvPr id="227" name="~PP1317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Matthew\Desktop\Jap Project Pics\w44s_1.jpg"/>
          <p:cNvPicPr/>
          <p:nvPr/>
        </p:nvPicPr>
        <p:blipFill>
          <a:blip r:embed="rId1"/>
          <a:stretch/>
        </p:blipFill>
        <p:spPr>
          <a:xfrm>
            <a:off x="2514600" y="1219320"/>
            <a:ext cx="4286160" cy="4133880"/>
          </a:xfrm>
          <a:prstGeom prst="rect">
            <a:avLst/>
          </a:prstGeom>
          <a:ln w="0">
            <a:noFill/>
          </a:ln>
        </p:spPr>
      </p:pic>
      <p:pic>
        <p:nvPicPr>
          <p:cNvPr id="229" name="~PP1435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ARN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 not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allenge a Japanese or Chinese man/women to a game of Starcraft.  You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t own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Placeholder 4" descr="starcraft-front.jpg"/>
          <p:cNvPicPr/>
          <p:nvPr/>
        </p:nvPicPr>
        <p:blipFill>
          <a:blip r:embed="rId1"/>
          <a:srcRect l="0" t="19" r="0" b="1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33" name="~PP1213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Kickin i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LDSCHOO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Placeholder 4" descr="rcc-446f1b557845awalkman.jpg"/>
          <p:cNvPicPr/>
          <p:nvPr/>
        </p:nvPicPr>
        <p:blipFill>
          <a:blip r:embed="rId1"/>
          <a:srcRect l="0" t="5752" r="0" b="575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37" name="~PP1842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21:48:31Z</dcterms:created>
  <dc:creator>Steven and Matthew</dc:creator>
  <dc:description/>
  <dc:language>en-US</dc:language>
  <cp:lastModifiedBy>Steven and Matthew</cp:lastModifiedBy>
  <dcterms:modified xsi:type="dcterms:W3CDTF">2008-11-14T05:08:21Z</dcterms:modified>
  <cp:revision>97</cp:revision>
  <dc:subject/>
  <dc:title>Slide 1</dc:title>
</cp:coreProperties>
</file>